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63D8-1F0A-498A-9531-1F086B1D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3D12-D01F-46C1-B54F-9F7CA781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6BEC9-DC10-44F5-8249-5A7F34B2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6183A-D3A6-4F21-9861-819D89E8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D0DBF-C6E0-4CA7-9603-ED9EEA21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7115D-252C-481A-ADF0-21404A22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C741E-9EBE-429A-A666-4557B948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3BD0C-8F81-43A6-9F72-DB750213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B2C55-7DDA-4E0D-AE94-8E7FC145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F1EED-24C4-406A-8F65-54921B1B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D1234-5AA9-4791-8452-CBE40DC0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5DDD6-73A7-4AD4-9A02-E6DED7A7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3FF-7C47-42B6-8599-9FDAEB46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5F996-9185-47F2-B7D8-DC5DB78C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7243A-AD3F-45E2-AB9E-6EBBB73E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ACADCA-CF5F-404D-BBE3-6BE100CC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CEE24-5A7B-436E-A92C-645EC997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33980-135E-4EB6-96B5-66985C67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962C9-4978-4FF6-B00A-649E99AF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C68E9-BF6E-4F54-90DB-11B7580E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CA562-AFD2-4F88-A130-F76E2D0E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B4D0A-01E5-45E6-9F87-406D2DEF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95F86-7FDA-49DB-B53D-FC07C14F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9DF1-22BE-4F85-B875-08FD7635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340F8-71F4-487E-BAD3-DB346709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CDD7-C53F-440B-AD6A-7163A27C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E8EA-B8D7-4DB8-8B18-7B2C7E83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ABDB-3985-40D8-94DA-4BC47ABA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0A54-9469-4570-818A-356A3A43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8E37-6AA3-4FBF-AD3F-437430BB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586E-CBDE-4B20-81F6-2C05E57C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8044-A371-4BD2-9448-D1E60F23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1567-54FA-40D2-8CD1-B855B873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85B8-FF70-41D0-A5D8-EBECD613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D275-F0EC-446B-9AB4-F26BC13B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C6C5-B602-4E90-9EED-7B16E122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D516-5F9F-4280-9404-43E34A14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BA5F-D372-4ECA-AECC-6C075975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27590-AB56-4725-B169-1336DC9B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FEA5D-DEFF-4168-AF63-76A0C32A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BB6A2-C2B0-495C-8F95-66A2E15D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D3890-F63D-4692-B26F-B4B8CB9E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755F2-966F-4F8C-A0DE-670684DC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25AC-2890-45F0-AB7D-328C7919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15759-3705-4091-8F89-835E9E20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4C448-2A31-4EBF-ABE4-794E4DC3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C8B46-8105-4823-A0B6-D449DCE3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68D7F-19FD-4885-9F99-95CD0AE1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40077-D62B-4C61-AF2B-A533D745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3E372-1308-48E6-B452-73748DC5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01D75-34C3-4326-AD9D-3C86CB2C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BE4A9-C84C-4FE0-92EE-1A094F19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D747B-6FB7-476D-89C0-114BBE3D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D9962-6E64-40A1-8B87-A1418C98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EF08-465B-44C9-9EC1-0CCB0B67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80BA8-48BD-445E-8FC9-BE0D4357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24AD5-7B9F-43C6-B691-76725251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9B6C9-30BF-457C-B4B3-87FF2E20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8E68E-652D-4344-8E57-05231A05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35E7A-5C1B-4C51-B71A-9109B1C9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4D1CF-3494-46AC-B3F5-7DD8CBDB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89239-EDE2-4BFD-9D44-3CA0F927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DEEEB-786D-40D1-998C-4CD61788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8FC7A-BCA0-42FA-90A2-7A02AE04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9903E-3B52-4CA2-ACBE-467CA310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B27-F900-418B-943D-86A08FD9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D3CA1-941B-409D-97D6-4330345E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6E69C-9BCC-45F9-82EF-0CFF444A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6D5A8-60D3-4B24-B917-37C6A850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DFEA0-6C1F-4233-9A82-AF8EFC1D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249F5-86DD-4D17-9946-5D35EA6A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15D2C-6685-49CA-9AEA-BD867A3B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BA421-4445-46AD-B694-C007A529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89E3E-C2B7-48E7-B746-2A4CDCCA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49775-C7FA-4819-BC7D-BB220448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15FCD-80E2-461B-8134-959DEDD9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110-B78C-4228-B6B9-7FEF39E6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A6764-A730-446D-AA95-68C82567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4BDA2-EC3B-4612-854D-9B8000CF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85F80-84CF-4F7D-82B6-03D601A7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3381A-7F77-4719-8D25-77F1B403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E80A0-324C-4313-ACE1-313813DE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738BA-6CD5-46E8-B9B0-E8CE4B47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E76C5-985C-4C01-9116-D6B6B23A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0304A-31A9-4194-9F93-CEFD39A4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5DC18-6EDC-4AB6-8A7C-5E22C9FF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BA59C-0AB8-4825-8ADB-1F1F6BCA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2E6E-BD3C-4543-9D17-79F41148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BB7E0-A193-4A1B-8C4C-8A65C9E9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D2415-C2BD-4693-9E74-E843FD3E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358F3-3D7D-4A39-A913-A432D4E1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36E54-1242-4700-B31C-45D59EC9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207AD-E8F7-420E-A2A7-A9C8C167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93189-D343-4E3F-AA43-660D17C0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0E809-0814-4B3E-AEC4-A204616A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9C855-36CA-47D1-9EBD-AF6CDC96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038D0-2AE2-4A03-A7D0-2C79B18A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85E1B-15CA-4A41-BC30-D1FA0A2B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FF4A-17EB-4247-8B00-9FB3CE79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CC362-7B4C-4FE2-860E-DD54B14D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227C4-6770-44E3-8422-5E9099FD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195AD-CB75-475D-9CF8-2FDF8E6C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29255-4BD1-430F-9E57-747F9FD0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21991-F85C-45F5-97D2-8FD10035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0D33C-EB15-4A06-B6C3-A9C28135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8C7F9-C039-4DE9-AA49-BCFC992E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F9BBA-E3FE-4F6D-A6F0-B70D547E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D1953-36F7-4C71-A968-ED7DE1D0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312C7-1218-4966-93B1-DF3E9190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E308-049F-4B2D-A849-7ABEE315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FEEF9-A2F0-4735-98D7-7A807BD5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0BA51-9664-436C-95FB-28560C2F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962B0-0646-4335-A8AD-545671F6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293B3-60B5-43B7-A146-A98D5ABF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31A6E-593D-46BC-B210-B86BBAD6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900E8-B920-484D-9B04-BDED4E9A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CBE97-9A48-4C66-AF20-1FCBA3D8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0FE03-1BC9-4474-AFF1-BBF0E87B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6AB94-DDAC-4DB2-A2E6-0A2E84BA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375B8-C13A-4ECD-B858-F0E05CD2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B8B1-96B1-48F3-A79E-78B8CF5576D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C40D-F695-484F-ABD2-B18B6F36CDC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2F35-B656-4939-9C5D-CDAA0084400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1006-8C3F-4598-BDDD-938B5EF9290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3FBA-EB3F-4857-B8CB-C4493C219CF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38EE-BF7C-41B6-81C0-D9C2F09378C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7CEE-E7DB-438A-ACED-CC27F373C65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1213-08C1-421F-B3B6-4D825BF820E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C5B9-ECA2-4D38-AFAE-8650DA14D50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5532-920C-4A6B-AA2E-39C2EC7FA0F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7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어디에 가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디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를 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말을 공부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슬리퍼리록 대학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사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청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다나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디에 가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시내에 갑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다나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시내에서 무엇을 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친구를 만납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시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ownt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친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fri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만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ere; inte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디에 갑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디에서 일하십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병원이 어디에 있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o ~, at ~; postposition denoting time or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10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시에 학교에 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일요일에도 회사에 갑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내일 미국에 갑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at ~; postposition denoting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교실에서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을 시장에서 샀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여자는 은행에서 일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부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usan (Pusan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병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hospit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우체국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ost offi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학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극장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hea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일하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다방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offee shop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장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청역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he city hall st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은행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식당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하숙집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oarding hou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식사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e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도서관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백화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department sto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과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rui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학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institut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갑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부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 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디에 가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갑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중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병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체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숙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집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사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극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을 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백화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을 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12T14:35:59Z</dcterms:modified>
  <cp:revision>97</cp:revision>
  <dc:subject/>
  <dc:title>KOREAN LANGUAGE</dc:title>
</cp:coreProperties>
</file>